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FE5D-52F8-491D-B253-3BBE5F017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D13F-940A-4BD2-996A-133E6097A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B51F-0805-4779-91E3-4DBECF256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8FBB-1BF8-4C31-803B-DEBCBDEAE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D787D-2CD2-401D-86C3-BC99D001E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077CD-2CC8-44A0-BBF0-529CED42C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F67E4-FEC4-439F-9E03-2169A2AF0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C5F43-0241-4666-9831-079C0F2B6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9E996-7755-46AD-BE42-BA5361D3C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EFE2B-A5AB-4AEA-9659-169CA3C5D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578A4-DD23-490E-A5A0-F4258569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BC05-9999-4F04-A148-523B995D8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81968-B376-4F54-BE8C-E7A658DB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88194-183A-440C-AFAF-B7F7D2BE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3EAF5-FDA2-480B-A005-5BA22E445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B9C37-3783-4F7F-B502-D26B1EF4E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6A801-C8A8-420D-B755-EB1CA668D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F0F72-4553-472B-8E6E-8C82B420C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426C7-C8AB-46FA-BEEF-D5A6CAE7B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0AA5A-E85E-43FA-82ED-0DA47ED7F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7BBE3-FD9A-4428-9D59-B3770EA05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2746D-4843-405E-8B35-D924B1F81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BCDC-5F92-41B6-80F6-4131040E7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86486-D905-466B-A41D-EC13C549F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ED4F1-8C98-49FB-AEEF-C85F2464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2FE5E-47D1-491F-8E2B-9878F0B2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5B7BE-0465-4C43-A25D-B9318C94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EBE77-CDB8-4DCF-80BD-B8034A902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68E90-4BAF-4C64-85C9-FB0945A96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1A523-74A3-42ED-9291-02CC56A1B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A1C60-C506-4002-8B2C-BC5ADDF3A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528C7-0750-4D47-9C9D-5E75B001E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9426C-9D49-49DA-B2D9-E71769741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6D91-B10C-48E9-9662-88FC9C89D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7C4FF-8C53-4068-ACC6-89FE53F57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3A4FF-27A5-40F9-8C23-3ABB16537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42E30-B43F-4623-8633-ECF0343A3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DC94F-1D39-49DD-84F5-A2034485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4EB11-2068-4CFB-992D-4960603E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FFCC8-DB12-4BEC-9655-FFD664AD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BE2CD-989D-44B8-AFCF-77F35907F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76E16-7548-4F20-9C34-B0E85786E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77EFB-810E-412C-89D2-6B49109CA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60ED-DF3E-4360-B8B5-CE5B96DD4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E10E-428A-4157-A14A-6E80AAF51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BDC4-B97A-435E-8B3F-9B502C67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5678-CFC9-4084-8A1C-A80DC07F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7F8A-3696-4B54-BE0F-8F9C7927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68855-A2FC-4FAE-A4C7-5A9790917261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51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63E96-01C4-4958-8F99-AE6CF6D9F9B6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98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99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5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106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7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08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09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10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1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6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7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8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9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0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3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4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5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0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1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2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3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4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5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6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7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8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9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0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1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2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3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4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5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46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147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8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9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0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1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2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3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4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5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6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7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8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59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0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1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2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3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4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5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6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7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8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9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0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1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2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3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4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5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6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7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95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196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8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99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08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209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216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21" name="PlaceHolder 1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1957D-9590-4EA1-8BF7-6E893FDAEE00}" type="slidenum">
              <a:rPr b="0" lang="lt-LT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263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70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72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273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74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275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6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7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8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9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0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2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3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4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5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6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7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0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1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2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3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4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5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7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8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9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0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1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2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3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4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5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6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7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8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9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0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311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312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3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4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5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6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7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8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9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0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1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2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3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24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5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6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7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8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9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0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1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2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3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4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5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6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7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8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9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0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1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2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3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4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5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6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7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8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9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0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1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2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3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4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5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6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7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8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9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360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361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3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364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73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374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0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381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7D778-749A-415D-B8A8-1301E1429521}" type="slidenum">
              <a:rPr b="0" lang="lt-LT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14400" y="11430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0033"/>
                </a:solidFill>
                <a:latin typeface="Times New Roman"/>
              </a:rPr>
              <a:t>PSICHOLOGIJOS </a:t>
            </a:r>
            <a:r>
              <a:rPr b="0" lang="lt-LT" sz="4000" spc="-1" strike="noStrike">
                <a:solidFill>
                  <a:srgbClr val="330033"/>
                </a:solidFill>
                <a:latin typeface="Times New Roman"/>
              </a:rPr>
              <a:t>TYRIMŲ </a:t>
            </a:r>
            <a:r>
              <a:rPr b="0" lang="en-US" sz="4000" spc="-1" strike="noStrike">
                <a:solidFill>
                  <a:srgbClr val="330033"/>
                </a:solidFill>
                <a:latin typeface="Times New Roman"/>
              </a:rPr>
              <a:t>METODAI</a:t>
            </a: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0033"/>
                </a:solidFill>
                <a:latin typeface="Tahoma"/>
              </a:rPr>
              <a:t>Tyrimo etapai</a:t>
            </a:r>
            <a:endParaRPr b="0" lang="en-US" sz="44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Tyrimo klausimas, probl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Formuojama hipotezė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Tyrimo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duomenų rinkimo būdo planavimas – tyrimo technikos ir strategijos pasirinki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Tyrimo atlikimas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– duomenų surinki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Duomenų analizė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Išvadų dary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0033"/>
                </a:solidFill>
                <a:latin typeface="Tahoma"/>
              </a:rPr>
              <a:t>Tyrimo technikos:</a:t>
            </a:r>
            <a:endParaRPr b="0" lang="en-US" sz="44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tvejo analiz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tebėj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pklausos (žodžiu, rašt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Testav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0033"/>
                </a:solidFill>
                <a:latin typeface="Tahoma"/>
              </a:rPr>
              <a:t>ATVEJO ANALIZĖ</a:t>
            </a: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no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r kelių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vej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yrimas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Išsamu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dinga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prantant retus atvej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rastas reprezentatyvu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alizavimo sunkum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lus darbui ir laik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r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ėjo šališku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0033"/>
                </a:solidFill>
                <a:latin typeface="Tahoma"/>
              </a:rPr>
              <a:t>STEBĖJIMAS </a:t>
            </a: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Organizuotas, tikslingas tam tikrų reiškinių suvok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rivaluma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Betarpiškuma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Natūrali aplink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Kai tiriamieji negali verbaliai išreikšti to, ko reik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Kai tiriamieji nenori kalbėti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Galimybė atsižvelgti į natūralų kontekstą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0033"/>
                </a:solidFill>
                <a:latin typeface="Tahoma"/>
              </a:rPr>
              <a:t>Išorinio stebėjimo tipai</a:t>
            </a: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300" spc="-1" strike="noStrike">
                <a:solidFill>
                  <a:srgbClr val="000000"/>
                </a:solidFill>
                <a:latin typeface="Arial"/>
              </a:rPr>
              <a:t>Stebėjimas neįsikišant/</a:t>
            </a: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natūraliomis sąlygomi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300" spc="-1" strike="noStrike">
                <a:solidFill>
                  <a:srgbClr val="000000"/>
                </a:solidFill>
                <a:latin typeface="Arial"/>
              </a:rPr>
              <a:t>Stebėjimas įsikišant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Eksperimentinis/laboratorinis stebėjim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Struktūruotas/išprovokuotas stebėji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Stebėjimas dalyvauj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Klinikinis stebėji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0033"/>
                </a:solidFill>
                <a:latin typeface="Tahoma"/>
              </a:rPr>
              <a:t>APKLAUSOS ir jų formos</a:t>
            </a: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truktūruotas/laisvas/pusiau struktūruotas pokalb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Raštu/žodži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tviri/uždari klausimai, Likert’o tipo skalė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0033"/>
                </a:solidFill>
                <a:latin typeface="Tahoma"/>
              </a:rPr>
              <a:t>Apklausų trūkumai</a:t>
            </a:r>
            <a:endParaRPr b="0" lang="en-US" sz="44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Nenoras atsakyti, sąmoningai nuslėp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ocialinio pageidaujamumo reiškin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Reflektyvumo sto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tminties įtaka praeities įvykių atgaminim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Klausimo nesuprat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0033"/>
                </a:solidFill>
                <a:latin typeface="Tahoma"/>
              </a:rPr>
              <a:t>Testavimas </a:t>
            </a: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LAUSIMYN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TESTAVIMAS (norm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Testų rūšy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Žinių testa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Bendrųjų gebėjimų testa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Intelekto testa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Asmenybės testa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Projekciniai testai (Rorschachas, HTP, kinetinis šeimos piešinys, papildymo metodikos, spalvų testai)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807732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0033"/>
                </a:solidFill>
                <a:latin typeface="Tahoma"/>
              </a:rPr>
              <a:t>PSICHOLOGIJOS TYRIMAI</a:t>
            </a:r>
            <a:endParaRPr b="0" lang="en-US" sz="44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agal psichologijos šak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agal tyrimo srit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Bazinia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Taikomiej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Susiję su psichologijos instrumenta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ijum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agal kintamųjų pobūdį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Kiekybinia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Kokybinia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0033"/>
                </a:solidFill>
                <a:latin typeface="Tahoma"/>
              </a:rPr>
              <a:t>Bendrieji tyrimo tikslai</a:t>
            </a:r>
            <a:endParaRPr b="0" lang="en-US" sz="44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prašy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aaiški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Numaty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Kontroliuo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ageri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0033"/>
                </a:solidFill>
                <a:latin typeface="Tahoma"/>
              </a:rPr>
              <a:t>Sąvokos</a:t>
            </a:r>
            <a:r>
              <a:rPr b="0" lang="en-US" sz="4400" spc="-1" strike="noStrike">
                <a:solidFill>
                  <a:srgbClr val="330033"/>
                </a:solidFill>
                <a:latin typeface="Tahoma"/>
              </a:rPr>
              <a:t>!</a:t>
            </a:r>
            <a:endParaRPr b="0" lang="en-US" sz="44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Tyrimo technika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-  empirinių duomenų rinkimo būda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vz., testai, steb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ėjimas, apklau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r kt.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yrimo strategija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–  bendras tyrimo planas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(aprašomoji, koreliacinė ir eksperimentinė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Tyrimo metodika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- konkreti empirinių duomenų rinkimo ir jų registravimo procedūra, tiksliai nurodanti visas tyrimo sąlygas ir atliekamų veiksmų eig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(Rorschacho, HTP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-1 ir kt.)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ahoma"/>
              </a:rPr>
              <a:t>Tyrimo strategijos</a:t>
            </a:r>
            <a:endParaRPr b="0" lang="en-US" sz="44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ra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šomo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- Atvejo analiz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Koreliacin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Eksperimentinė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0033"/>
                </a:solidFill>
                <a:latin typeface="Tahoma"/>
              </a:rPr>
              <a:t>KORELIACINĖ STRATEGIJA</a:t>
            </a:r>
            <a:endParaRPr b="0" lang="en-US" sz="44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Nustato ryšį tarp dviejų ar daugiau veiksni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nurodo prie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tingu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Teigiama koreliac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Neigiama koreliacij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Koreliacijos koeficient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+/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0033"/>
                </a:solidFill>
                <a:latin typeface="Tahoma"/>
              </a:rPr>
              <a:t>EKSPERIMENTINĖ STRATEGIJA</a:t>
            </a:r>
            <a:endParaRPr b="0" lang="en-US" sz="44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riklausomas kintam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Nepriklausomas kintam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iekiama nustatyti ir paaiškinti ryšio tarp nepriklausomo ir priklausomo kintamojo pobūd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0033"/>
                </a:solidFill>
                <a:latin typeface="Tahoma"/>
              </a:rPr>
              <a:t>Kas gali iškreipti rezultatus?</a:t>
            </a:r>
            <a:endParaRPr b="0" lang="en-US" sz="44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rankos komponen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cebo efekt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tai fenomenas, kai žmogaus reakciją į gydymą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(poveikį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mia ne pats gydymas, o laukima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ksperimentatoriaus šališkumas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imbard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anfordo kal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ėjimo tyri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S.Milgramo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Konformiškumo ir paklusnumo tyrima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0033"/>
                </a:solidFill>
                <a:latin typeface="Tahoma"/>
              </a:rPr>
              <a:t>Psichologinių tyrimų pvz:  </a:t>
            </a:r>
            <a:endParaRPr b="0" lang="en-US" sz="44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Zimbard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Stanfordo kal</a:t>
            </a:r>
            <a:r>
              <a:rPr b="0" lang="lt-LT" sz="4000" spc="-1" strike="noStrike">
                <a:solidFill>
                  <a:srgbClr val="000000"/>
                </a:solidFill>
                <a:latin typeface="Arial"/>
              </a:rPr>
              <a:t>ėjimo tyrim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Arial"/>
              </a:rPr>
              <a:t>S.Milgramo</a:t>
            </a:r>
            <a:r>
              <a:rPr b="0" lang="lt-LT" sz="4000" spc="-1" strike="noStrike">
                <a:solidFill>
                  <a:srgbClr val="000000"/>
                </a:solidFill>
                <a:latin typeface="Arial"/>
              </a:rPr>
              <a:t> Konformiškumo ir paklusnumo tyrima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3T11:26:52Z</dcterms:created>
  <dc:creator>SPPS2</dc:creator>
  <dc:description/>
  <dc:language>en-US</dc:language>
  <cp:lastModifiedBy> </cp:lastModifiedBy>
  <dcterms:modified xsi:type="dcterms:W3CDTF">2007-08-29T12:38:26Z</dcterms:modified>
  <cp:revision>28</cp:revision>
  <dc:subject/>
  <dc:title>PSICHOLOGIJOS METODAI</dc:title>
</cp:coreProperties>
</file>